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53F-F3C3-4513-BCED-4346FBCB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01E7-F397-4697-A699-69DA897F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85C-0FD2-4900-94B7-03C78DC8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BCA-50CF-40FC-BAC5-5A913CF0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A4E5-B6E9-4190-A9E6-73BF891A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38EE-D795-41D9-A7F7-020E965B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500-F256-421D-B07F-DED40A6F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81A-3B8F-4C7F-832C-DE100214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963C-4FB4-4CDA-AE38-D460F91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52F-0C44-44A9-AE52-71399104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6D64-FF4E-4A9F-81F1-A6264F08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D38-53CE-43B5-B771-1E50158C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B53E3-4A0D-41E8-8AD1-D99B675E052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 tests with high performance FP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y of tests at Lisbon (Cesar Tobon – </a:t>
            </a:r>
            <a:r>
              <a:rPr b="0" lang="en-GB" sz="3200" spc="-1" strike="noStrike">
                <a:solidFill>
                  <a:srgbClr val="0084d1"/>
                </a:solidFill>
                <a:latin typeface="Arial"/>
              </a:rPr>
              <a:t>IFIC-Un. Valenci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; Joel Silva, José Augusto, José Silva, Guiomar Evans – </a:t>
            </a:r>
            <a:r>
              <a:rPr b="0" lang="en-GB" sz="3200" spc="-1" strike="noStrike">
                <a:solidFill>
                  <a:srgbClr val="0084d1"/>
                </a:solidFill>
                <a:latin typeface="Arial"/>
              </a:rPr>
              <a:t>INESC-ID / LIP / FCUL – Un. Lisbo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quip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ilinx ML605-Virtex-6 boa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ilinx ML507-Virtex-5 boa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a Stratix II GX boa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3222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tation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7776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mmunication tests: inter-board and board-to-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1701360"/>
            <a:ext cx="4356000" cy="53182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1000"/>
          </a:bodyPr>
          <a:p>
            <a:pPr marL="391320" indent="-29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L605-Virtex-6 and ML507-Virtex-5 working full-duplex with no errors (two cross TX-RX simultaneously, common clock from either board or external-Stratix II GX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1320" indent="-29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vantage of Virtex-6 over Virtex-5: automatic transceiver instances when multiples GBT links are implemented (in Virtex-5 instantiation must be manu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91320" indent="-29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oopback GBT TX-RX implementation in Virtex-6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29280" y="1539720"/>
            <a:ext cx="459108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119640" y="4859280"/>
            <a:ext cx="1049400" cy="1470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L6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rtex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799400" y="4859280"/>
            <a:ext cx="1049400" cy="1470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L5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rtex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0920" y="5581800"/>
            <a:ext cx="438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799400" y="5589720"/>
            <a:ext cx="4381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72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70840" y="5699160"/>
            <a:ext cx="63000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165440" y="6119640"/>
            <a:ext cx="636840" cy="180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269280" y="4859280"/>
            <a:ext cx="630360" cy="1470240"/>
          </a:xfrm>
          <a:prstGeom prst="rect">
            <a:avLst/>
          </a:prstGeom>
          <a:solidFill>
            <a:srgbClr val="bddd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70600" y="4859280"/>
            <a:ext cx="630000" cy="1470240"/>
          </a:xfrm>
          <a:prstGeom prst="rect">
            <a:avLst/>
          </a:prstGeom>
          <a:solidFill>
            <a:srgbClr val="bddd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00600" y="548964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50240" y="5489640"/>
            <a:ext cx="419040" cy="1440"/>
          </a:xfrm>
          <a:prstGeom prst="line">
            <a:avLst/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64240" y="5251320"/>
            <a:ext cx="455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813880" y="5251320"/>
            <a:ext cx="4554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2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6" idx="2"/>
            <a:endCxn id="47" idx="2"/>
          </p:cNvCxnSpPr>
          <p:nvPr/>
        </p:nvCxnSpPr>
        <p:spPr>
          <a:xfrm>
            <a:off x="6643440" y="6329520"/>
            <a:ext cx="16801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6750000" y="667692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on c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ML605, ML50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 Stratix II G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1520" y="5641920"/>
            <a:ext cx="581040" cy="519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4160" y="5665680"/>
            <a:ext cx="581040" cy="5191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peed Estimates in Virtex-6 (ISE 12.4 Compil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39956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9996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binatoric Modules: 4 x Reed-Solomon Decoder (4 modules is maximum possible due to # I/O pins.) Critical I/O path: 2.212 n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996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quential module: 1 x Scrambler. Max. clock frequency ~800 MHz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040360" y="1644480"/>
            <a:ext cx="3865680" cy="285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040360" y="4610160"/>
            <a:ext cx="419400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280" y="733320"/>
            <a:ext cx="906948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PGA Resources  vs. # of full GB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89120" y="2955960"/>
            <a:ext cx="8391240" cy="208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8:46:35Z</dcterms:created>
  <dc:creator/>
  <dc:description/>
  <dc:language>en-US</dc:language>
  <cp:lastModifiedBy/>
  <dcterms:modified xsi:type="dcterms:W3CDTF">2011-03-04T23:05:23Z</dcterms:modified>
  <cp:revision>5</cp:revision>
  <dc:subject/>
  <dc:title/>
</cp:coreProperties>
</file>